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DBD8E-DF98-4C43-A275-5C6690DAF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31600-9E61-4277-9C24-31B23224C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12375-E001-437D-98EB-ACB1DEB80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C9EC5-CF18-47AC-86C4-FD5C8806A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0648E-059A-43CF-AB20-E35809790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D1028-EB47-4631-836D-7132A88F6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2486A-6B42-4C73-9505-6714ABB23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39792-151F-4603-AADC-68D21F01C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9935C-88E8-40FF-A480-797238C5F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63ADB-6AC2-4587-8FC2-0F6AB9C54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B25A8-D92D-44EC-8064-D22D8016D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C25C0-AB54-4167-A63B-80B889850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2E0A9-2E49-42FA-AE07-FD5F286C2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E2AA1-5BA3-445E-AB52-672880A3A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600A4-0122-4111-A86B-18D74B013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383B8-D498-4B7D-9898-336FCD7C2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8D2A0-3130-49FD-B04C-C9A8D5E9B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3DC24-B1F8-41F1-A4E6-45B8FE768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D73D4-4716-43B0-8211-FC96E9077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20C73-CF0C-4B6D-B7E6-9B710BF6C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B2A5F-995E-44F0-AB49-1EAD76998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5DD17-C0D1-4A7B-8513-E92273113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DC2EB-E191-4BE4-85AF-8C656ADE9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83C2F-E432-491A-AD95-E057F1B91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08507-EE93-4360-A186-F7C40B1CC3B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F01B0-3F0A-489D-92BF-9CCF0BA0EE1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00"/>
                </a:solidFill>
                <a:latin typeface="Times New Roman"/>
              </a:rPr>
              <a:t>La Rutina Diaria de El Mapache!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y: Ryan Heminwa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 rot="20422800">
            <a:off x="457200" y="2361960"/>
            <a:ext cx="3352680" cy="28335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 rot="1732200">
            <a:off x="5181120" y="2514240"/>
            <a:ext cx="3353040" cy="26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La Rutina por la mañana!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362320" y="1676520"/>
            <a:ext cx="6400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l mapache no s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levanta enseguid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caundo s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despiert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04920" y="1523880"/>
            <a:ext cx="2057400" cy="16002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304920" y="3276720"/>
            <a:ext cx="6858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6248520" y="3505320"/>
            <a:ext cx="2590560" cy="144756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533520" y="3962520"/>
            <a:ext cx="59436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undo el mapache se lavanta, èl s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bañ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 No se ducha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Se lav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el pelo y se lava la carra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6248520" y="4952880"/>
            <a:ext cx="259056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La Rutina por la mañana!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60199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Después se baña, el mapache  se </a:t>
            </a:r>
            <a:r>
              <a:rPr b="0" lang="es-ES" sz="3200" spc="-1" strike="noStrike" u="sng">
                <a:solidFill>
                  <a:srgbClr val="ffffff"/>
                </a:solidFill>
                <a:uFillTx/>
                <a:latin typeface="Times New Roman"/>
              </a:rPr>
              <a:t>desayuna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 de las fruita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5943600" y="1523880"/>
            <a:ext cx="3048120" cy="182880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228600" y="3733920"/>
            <a:ext cx="2666880" cy="213516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3124080" y="4191120"/>
            <a:ext cx="5105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352680" y="4114800"/>
            <a:ext cx="4953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l mapache s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cepill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los dientes con una cepillo de dient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La Rutina por la mañana!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5638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 s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pone la rop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porque èl puede llevar ropa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5943600" y="1447920"/>
            <a:ext cx="2514600" cy="1881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228600" y="3962520"/>
            <a:ext cx="2629080" cy="174312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3200400" y="4343400"/>
            <a:ext cx="5105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429000" y="4191120"/>
            <a:ext cx="5029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l mapach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se divirt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con una 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cámara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La Rutina por la noche!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62485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oche, el mapach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se acuest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a once de la noche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6019920" y="1600200"/>
            <a:ext cx="2857320" cy="214308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228600" y="4165560"/>
            <a:ext cx="3048120" cy="202428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3657600" y="4495680"/>
            <a:ext cx="5029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l mapache s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duerme enseguid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 Es cansado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3T17:59:19Z</dcterms:created>
  <dc:creator>heminwayrya</dc:creator>
  <dc:description/>
  <dc:language>en-US</dc:language>
  <cp:lastModifiedBy>heminwayrya</cp:lastModifiedBy>
  <dcterms:modified xsi:type="dcterms:W3CDTF">2012-04-05T15:40:35Z</dcterms:modified>
  <cp:revision>11</cp:revision>
  <dc:subject/>
  <dc:title>La Rutina Diaria de El Mapache!</dc:title>
</cp:coreProperties>
</file>